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7.jpeg" ContentType="image/jpeg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42D6-7E9F-41F3-A48C-2742F4548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fter learning the negative and likes and disli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C42-0EDC-414E-9F90-27609176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FEE-5055-4E4A-8DA5-7D3C5080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8C1-9DA8-4D54-B940-247AA5E2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8D60-900C-443F-A69E-60A36EB7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FF0E-91BD-40C8-A224-70C415AC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59D7-3563-4F2F-A06D-1018CAAA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60CB-2BC2-47AA-8917-A2F478D4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4403-A0BD-476B-B69F-602D54A2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E7AF-8C1E-4AFF-A688-D56123F9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CB2E-1094-4D8F-87DD-F14CF6DB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40A7-07C9-4177-A237-9C005F42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D3DF-09FF-4D0D-AA43-E4951E47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BD6E-E5EC-4C14-8FB4-CBD35064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80A4-C354-437D-89C2-453AEAB8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E035-051D-42A0-A1EB-1DC53015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9282-41E1-4105-B33A-1279BA50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5B3E-7CBE-4EE6-993C-30D8257A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5EBB-A007-4243-9959-123CCDCB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E26-95E1-4059-ADD3-5F099B60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B740-E37A-4DE8-80A6-874FFCC4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031-8151-4418-94C4-BCAF1CCA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F53A-C770-43AB-ABE3-2375CAA0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3E5B-9A4D-4982-A71A-3BC53F8D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B05-5D2E-42BD-BB4F-346B914B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207B-F3CB-4BC2-8540-EFEAF04CDE2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1713-EADA-4D51-A3FA-BA0CA99689D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91520" y="914400"/>
            <a:ext cx="1752480" cy="1676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3049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Translate these French sentenc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514600"/>
            <a:ext cx="8001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Kristen ITC"/>
              </a:rPr>
              <a:t>Traduisez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Kristen ITC"/>
              </a:rPr>
              <a:t>ces phr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Kristen ITC"/>
              </a:rPr>
              <a:t>francaise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391520" y="914400"/>
            <a:ext cx="1752480" cy="1676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7200" y="304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Who is energetic to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28954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Kristen ITC"/>
              </a:rPr>
              <a:t>Qui est énergique aujourd’hui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1621080" cy="2438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391520" y="914400"/>
            <a:ext cx="1752480" cy="1676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" y="3049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I am a friend of Luke.  He is very friend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1337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Kristen ITC"/>
              </a:rPr>
              <a:t>Je suis une amie de Luke.  Il est très socia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629400" y="3581280"/>
            <a:ext cx="1663560" cy="2667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391520" y="914400"/>
            <a:ext cx="1752480" cy="1676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304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MOT 2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2514600"/>
            <a:ext cx="8001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Kristen ITC"/>
              </a:rPr>
              <a:t>Traduisez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Kristen ITC"/>
              </a:rPr>
              <a:t>ces phr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Kristen ITC"/>
              </a:rPr>
              <a:t>francaise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391520" y="914400"/>
            <a:ext cx="1752480" cy="1676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3049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I like drama and video games to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1337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Kristen ITC"/>
              </a:rPr>
              <a:t>J’aime le drame et les jeux vidéo aussi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124080" y="4495680"/>
            <a:ext cx="259092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391520" y="914400"/>
            <a:ext cx="1752480" cy="1676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57200" y="304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Suzanne is not ang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1337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Kristen ITC"/>
              </a:rPr>
              <a:t>Suzanne n’est pas fâché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3581280" y="4572000"/>
            <a:ext cx="14479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391520" y="914400"/>
            <a:ext cx="1752480" cy="1676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7200" y="3049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What is Peter like?...nice or selfish?  </a:t>
            </a:r>
            <a:r>
              <a:rPr b="0" lang="en-US" sz="4400" spc="-1" strike="noStrike">
                <a:solidFill>
                  <a:srgbClr val="ff0066"/>
                </a:solidFill>
                <a:latin typeface="Kristen ITC"/>
              </a:rPr>
              <a:t>(How is Peter?)</a:t>
            </a: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1337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Kristen ITC"/>
              </a:rPr>
              <a:t>Comment est Peter?  Sympathique ou égoïs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20040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391520" y="914400"/>
            <a:ext cx="1752480" cy="1676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57200" y="3049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I like French, but I don’t like the homewor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1337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Kristen ITC"/>
              </a:rPr>
              <a:t>J’aime le francais, mais je n’aime pas le devoi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858000" y="4114800"/>
            <a:ext cx="14731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391520" y="914400"/>
            <a:ext cx="1752480" cy="1676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304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The test is tomorr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1337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Kristen ITC"/>
              </a:rPr>
              <a:t>L’exanen est demai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248520" y="3124080"/>
            <a:ext cx="213336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391520" y="914400"/>
            <a:ext cx="1752480" cy="1676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7200" y="2286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Kristen ITC"/>
              </a:rPr>
              <a:t>Clare is a student from West who is not really friendly</a:t>
            </a: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21337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Kristen ITC"/>
              </a:rPr>
              <a:t>.Clare est une élève de West qui n’est pas vraiment socia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654960" y="3276720"/>
            <a:ext cx="203184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391520" y="914400"/>
            <a:ext cx="1752480" cy="1676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" y="304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I am happ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89548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Kristen ITC"/>
              </a:rPr>
              <a:t>Je suis conten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1523880" cy="22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391520" y="914400"/>
            <a:ext cx="1752480" cy="1676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304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I am very happ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236232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Kristen ITC"/>
              </a:rPr>
              <a:t>Je suis très content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rcRect l="45874" t="-315" r="7677" b="31936"/>
          <a:stretch/>
        </p:blipFill>
        <p:spPr>
          <a:xfrm>
            <a:off x="914400" y="3733920"/>
            <a:ext cx="1876320" cy="2209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391520" y="914400"/>
            <a:ext cx="1752480" cy="1676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" y="304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You are really sma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362320"/>
            <a:ext cx="8001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Kristen ITC"/>
              </a:rPr>
              <a:t>Tu es vrai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Kristen ITC"/>
              </a:rPr>
              <a:t>intelligen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38080" y="4541760"/>
            <a:ext cx="2057400" cy="1643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391520" y="914400"/>
            <a:ext cx="1752480" cy="1676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304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She is tired and sic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8954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Kristen ITC"/>
              </a:rPr>
              <a:t>Elle est fatiguée et  malad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324480" y="4191120"/>
            <a:ext cx="2057400" cy="205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391520" y="914400"/>
            <a:ext cx="1752480" cy="1676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304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He is Bob’s bro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43828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Kristen ITC"/>
              </a:rPr>
              <a:t>Il est le frère de Bob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38080" y="3352680"/>
            <a:ext cx="206244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391520" y="914400"/>
            <a:ext cx="1752480" cy="1676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304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The girl is mean to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2860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Kristen ITC"/>
              </a:rPr>
              <a:t>La fille est méchante aussi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838080" y="3581280"/>
            <a:ext cx="2743200" cy="2743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391520" y="914400"/>
            <a:ext cx="1752480" cy="1676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1522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Kristen ITC"/>
              </a:rPr>
              <a:t>You are a student at Central and she is a student at South</a:t>
            </a: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13372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Kristen ITC"/>
              </a:rPr>
              <a:t>Tu es élève à Central et elle est élève à South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rcRect l="0" t="4167" r="30557" b="0"/>
          <a:stretch/>
        </p:blipFill>
        <p:spPr>
          <a:xfrm>
            <a:off x="838080" y="4781520"/>
            <a:ext cx="167652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391520" y="914400"/>
            <a:ext cx="1752480" cy="1676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3049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She’s from Tijuana.  She’s Mexic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3623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risten ITC"/>
              </a:rPr>
              <a:t>Elle est de Tijuana.  Elle est mexicain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rcRect l="6857" t="4167" r="3220" b="47224"/>
          <a:stretch/>
        </p:blipFill>
        <p:spPr>
          <a:xfrm>
            <a:off x="2666880" y="4114800"/>
            <a:ext cx="3200400" cy="22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41:48Z</dcterms:created>
  <dc:creator>SDW</dc:creator>
  <dc:description/>
  <dc:language>en-US</dc:language>
  <cp:lastModifiedBy>SDW</cp:lastModifiedBy>
  <dcterms:modified xsi:type="dcterms:W3CDTF">2010-10-21T19:17:28Z</dcterms:modified>
  <cp:revision>7</cp:revision>
  <dc:subject/>
  <dc:title>Slide 1</dc:title>
</cp:coreProperties>
</file>